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5EE-4C4C-4EF3-94D4-FBC3B568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D2E-13E8-4349-9DEF-BCE1798D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5E7-9BE6-4211-942C-E7ECB460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F4F-2D45-458E-A4C5-26143DDD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B5C-3029-48E3-A42B-B0C72944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FCF-ADCC-4BBD-945F-C42CE787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459-74EC-4514-A4AE-4C87A59E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B20-D156-4CD7-9418-CCAAFA23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ECC-AE88-464C-8C10-6365B8FA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292-BF0F-4EDD-80FF-5529D9F3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B36-4052-4B8F-836E-F67D6324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BEB-E63B-434C-BF74-811D3626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C429-1E3C-40FE-BE58-969BFCF51C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220500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ros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439272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220500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omic Sans MS"/>
              </a:rPr>
              <a:t>marro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439272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omic Sans MS"/>
              </a:rPr>
              <a:t>noir</a:t>
            </a:r>
            <a:r>
              <a:rPr b="1" i="1" lang="en-US" sz="13000" spc="-1" strike="noStrike">
                <a:solidFill>
                  <a:srgbClr val="ff0000"/>
                </a:solidFill>
                <a:latin typeface="Comic Sans MS"/>
              </a:rPr>
              <a:t>(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036000" cy="2205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omic Sans MS"/>
              </a:rPr>
              <a:t>bleu</a:t>
            </a:r>
            <a:r>
              <a:rPr b="1" i="1" lang="en-US" sz="13000" spc="-1" strike="noStrike">
                <a:solidFill>
                  <a:srgbClr val="ff0000"/>
                </a:solidFill>
                <a:latin typeface="Comic Sans MS"/>
              </a:rPr>
              <a:t>(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2205000"/>
            <a:ext cx="9036000" cy="2205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omic Sans MS"/>
              </a:rPr>
              <a:t>vert</a:t>
            </a:r>
            <a:r>
              <a:rPr b="1" i="1" lang="en-US" sz="13000" spc="-1" strike="noStrike">
                <a:solidFill>
                  <a:srgbClr val="ff0000"/>
                </a:solidFill>
                <a:latin typeface="Comic Sans MS"/>
              </a:rPr>
              <a:t>(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0" y="4392720"/>
            <a:ext cx="9036000" cy="2205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Comic Sans MS"/>
              </a:rPr>
              <a:t>gris</a:t>
            </a:r>
            <a:r>
              <a:rPr b="1" i="1" lang="en-US" sz="13000" spc="-1" strike="noStrike">
                <a:solidFill>
                  <a:srgbClr val="ff0000"/>
                </a:solidFill>
                <a:latin typeface="Comic Sans MS"/>
              </a:rPr>
              <a:t>(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omic Sans MS"/>
              </a:rPr>
              <a:t>violet</a:t>
            </a:r>
            <a:r>
              <a:rPr b="1" i="1" lang="en-US" sz="13000" spc="-1" strike="noStrike">
                <a:solidFill>
                  <a:srgbClr val="ff0000"/>
                </a:solidFill>
                <a:latin typeface="Comic Sans MS"/>
              </a:rPr>
              <a:t>(t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2205000"/>
            <a:ext cx="8964720" cy="2205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0" spc="-1" strike="noStrike">
                <a:solidFill>
                  <a:srgbClr val="000000"/>
                </a:solidFill>
                <a:latin typeface="Comic Sans MS"/>
              </a:rPr>
              <a:t>blanc</a:t>
            </a:r>
            <a:r>
              <a:rPr b="1" i="1" lang="fr-FR" sz="13000" spc="-1" strike="noStrike">
                <a:solidFill>
                  <a:srgbClr val="ff0000"/>
                </a:solidFill>
                <a:latin typeface="Comic Sans MS"/>
              </a:rPr>
              <a:t>(he)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1:20:18Z</dcterms:created>
  <dc:creator>Ludivine</dc:creator>
  <dc:description/>
  <dc:language>en-US</dc:language>
  <cp:lastModifiedBy>llegal</cp:lastModifiedBy>
  <dcterms:modified xsi:type="dcterms:W3CDTF">2007-09-04T07:30:53Z</dcterms:modified>
  <cp:revision>2</cp:revision>
  <dc:subject/>
  <dc:title>Diapositive 1</dc:title>
</cp:coreProperties>
</file>